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48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294F9-A77D-44D4-951C-6A42B1895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BF91D-AE24-419E-BA4E-02C5C58F0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02D64-F073-49D1-A89C-2FB96B2E9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260E0-5E78-45C4-976C-6FAB54777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09BDC4-D963-4207-B68A-EC1CCFE55B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18099-A45E-45E3-85E4-98AEC2B24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58045-EFE6-453A-B0B1-EC6452573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06BF4-1309-4450-B32E-612A76591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FD118-8638-4457-A17D-6ABAEC3C7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285640"/>
            <a:ext cx="7772400" cy="5299560"/>
          </a:xfrm>
          <a:prstGeom prst="rect">
            <a:avLst/>
          </a:prstGeom>
          <a:noFill/>
          <a:ln w="0">
            <a:noFill/>
          </a:ln>
        </p:spPr>
        <p:txBody>
          <a:bodyPr lIns="92160" rIns="92160" tIns="46080" bIns="4608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436EC4-F54F-45FE-95A4-B5B2B6712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A6B56-3C34-4E36-95B8-B302875BC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D5015-778D-4C70-A1FC-418855238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B573E-74F2-4ADB-B483-76E785011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96D77-D25B-4C41-8FF8-6F1646081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18CE0-E9FF-47E2-8892-F38C66C99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1E9B9-F622-47EA-8EDF-5E5C2BC353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242DC-737C-4539-BE21-86D411937B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FA127-583B-4502-8C7C-D9F0B6389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1B2B5-0FD8-4B17-A9DF-42E97730E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047C6-C54B-4811-B68F-0A4D9AAD5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285640"/>
            <a:ext cx="7772400" cy="5299560"/>
          </a:xfrm>
          <a:prstGeom prst="rect">
            <a:avLst/>
          </a:prstGeom>
          <a:noFill/>
          <a:ln w="0">
            <a:noFill/>
          </a:ln>
        </p:spPr>
        <p:txBody>
          <a:bodyPr lIns="92160" rIns="92160" tIns="46080" bIns="4608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2BC9D-B407-4D70-A9F7-CE2157D33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16E50-B37E-4118-8989-CD7ED46D4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701C8-61C5-4301-8B8F-3C320772C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55EF2-7346-4DC3-A7F4-439941B0E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FFD6F-8B00-4F2E-8A98-8F67DF4BE357}"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CC4E-92D6-4148-8835-56F11F7B46DF}"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en, Würmer und Trojaner</a:t>
            </a:r>
            <a:endParaRPr b="0" lang="en-US" sz="4400" spc="-1" strike="noStrike">
              <a:solidFill>
                <a:srgbClr val="0066ff"/>
              </a:solidFill>
              <a:latin typeface="Times New Roman"/>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6699"/>
                </a:solidFill>
                <a:latin typeface="Arial"/>
              </a:rPr>
              <a:t>Seminar von Matthias Müller am 22.07.2004</a:t>
            </a:r>
            <a:endParaRPr b="1"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Polymorphe Viren</a:t>
            </a:r>
            <a:endParaRPr b="0" lang="en-US" sz="4400" spc="-1" strike="noStrike">
              <a:solidFill>
                <a:srgbClr val="0066ff"/>
              </a:solidFill>
              <a:latin typeface="Times New Roman"/>
            </a:endParaRPr>
          </a:p>
        </p:txBody>
      </p:sp>
      <p:sp>
        <p:nvSpPr>
          <p:cNvPr id="10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verändern "Gestalt" während der Verbreitung</a:t>
            </a:r>
            <a:endParaRPr b="1"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Mutations-Engines können Milliarden von Mutations-Routinen generieren</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Engine kann komplexer sein, als der Virus selbst</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es kann auch die Verschlüsselungs-Routine durch Umstellen der Reihenfolge der Instruktionen verändert werden</a:t>
            </a:r>
            <a:endParaRPr b="1" lang="en-US" sz="1800" spc="-1" strike="noStrike">
              <a:solidFill>
                <a:srgbClr val="3366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CFED1886-51FF-45CF-A51A-A5F3C8318E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Würmer</a:t>
            </a:r>
            <a:endParaRPr b="0" lang="en-US" sz="4400" spc="-1" strike="noStrike">
              <a:solidFill>
                <a:srgbClr val="0066ff"/>
              </a:solidFill>
              <a:latin typeface="Times New Roman"/>
            </a:endParaRPr>
          </a:p>
        </p:txBody>
      </p:sp>
      <p:sp>
        <p:nvSpPr>
          <p:cNvPr id="111"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Merkmale:</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Programm</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erbreitet eine vollständige, lauffähige Version auf andere Rechner</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erbraucht Ressourcen des Hosts oder/und des Netzwerks</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071673CA-8057-4FCE-80EE-F33D0EFC4D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Hoaxes</a:t>
            </a:r>
            <a:endParaRPr b="0" lang="en-US" sz="4400" spc="-1" strike="noStrike">
              <a:solidFill>
                <a:srgbClr val="0066ff"/>
              </a:solidFill>
              <a:latin typeface="Times New Roman"/>
            </a:endParaRPr>
          </a:p>
        </p:txBody>
      </p:sp>
      <p:sp>
        <p:nvSpPr>
          <p:cNvPr id="1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eine Art ‘codeloser' Wurm: Hoax</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Falschnachrichten ('Zeitungsente'), in denen die Aufforderung zum Weiterversand enthalten ist</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Beispiel: HIV-Hoax (erstes Auftreten Anfang Dezember 2003)</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8BE5F60A-5DE8-4111-A672-C89D1C94CD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Hoaxes</a:t>
            </a:r>
            <a:endParaRPr b="0" lang="en-US" sz="4400" spc="-1" strike="noStrike">
              <a:solidFill>
                <a:srgbClr val="0066ff"/>
              </a:solidFill>
              <a:latin typeface="Times New Roman"/>
            </a:endParaRPr>
          </a:p>
        </p:txBody>
      </p:sp>
      <p:sp>
        <p:nvSpPr>
          <p:cNvPr id="115"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fontScale="97000"/>
          </a:bodyPr>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6699"/>
                </a:solidFill>
                <a:latin typeface="Arial"/>
              </a:rPr>
              <a:t>"DURCHLESEN UND WEITERLEITEN!!!</a:t>
            </a:r>
            <a:endParaRPr b="1" lang="en-US" sz="1400" spc="-1" strike="noStrike">
              <a:solidFill>
                <a:srgbClr val="336699"/>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6699"/>
                </a:solidFill>
                <a:latin typeface="Arial"/>
              </a:rPr>
              <a:t>	</a:t>
            </a:r>
            <a:r>
              <a:rPr b="1" lang="de-DE" sz="1400" spc="-1" strike="noStrike">
                <a:solidFill>
                  <a:srgbClr val="336699"/>
                </a:solidFill>
                <a:latin typeface="Arial"/>
              </a:rPr>
              <a:t>[...] Vor einigen Wochen hat sich in einem Kino eine Person auf etwas Spitziges gesetzt, das sich auf einem der Sitze befand. Als Sie sich wieder aufgerichtet hat, um zu sehen, um was es sich handelte, da hat sie eine Nadel gefunden, die in den Sitz gestochen war mit einer befestigten Notiz: "Sie wurden soeben durch das HIV infiziert".  Das Kontrollzentrum der Krankheiten berichtet über mehrere ähnliche Ereignisse kürzlich vorgekommen in mehreren anderen Städten. Alle getesteten Nadeln SIND HIV positiv. [...] Alle öffentlichen Stühle müssen mit Wachsamkeit und Vorsicht vor Gebrauch untersucht werden. [...] Außerdem fordern sie jeden auf, allen Mitgliedern Ihrer Familie und Ihrer Freunde diese Nachricht zu übermitteln. Danke. Dies ist sehr wichtig!!! Denk, dass du ein Leben retten kannst, indem du diese Nachricht weiter verteilst. BITTE nimm dir einige Sekunden deiner Zeit, um die Mitteilung zu lesen und weiterzuleiten.</a:t>
            </a:r>
            <a:endParaRPr b="1" lang="en-US" sz="1400" spc="-1" strike="noStrike">
              <a:solidFill>
                <a:srgbClr val="336699"/>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6699"/>
                </a:solidFill>
                <a:latin typeface="Arial"/>
              </a:rPr>
              <a:t>LKA Öffentlichkeitsarbeit"</a:t>
            </a:r>
            <a:endParaRPr b="1" lang="en-US" sz="1400" spc="-1" strike="noStrike">
              <a:solidFill>
                <a:srgbClr val="336699"/>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6699"/>
                </a:solidFill>
                <a:latin typeface="Arial"/>
              </a:rPr>
              <a:t>Quelle: http://www.bsi.bund.de/av/vb/hiv-hoax.htm (28.04.2004)</a:t>
            </a:r>
            <a:endParaRPr b="1" lang="en-US" sz="1400" spc="-1" strike="noStrike">
              <a:solidFill>
                <a:srgbClr val="336699"/>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6699"/>
                </a:solidFill>
                <a:latin typeface="Arial"/>
              </a:rPr>
              <a:t>Anmerkung: diese mail stammt NICHT vom LKA, der Inhalt ist unwahr!</a:t>
            </a:r>
            <a:endParaRPr b="1" lang="en-US" sz="1400" spc="-1" strike="noStrike">
              <a:solidFill>
                <a:srgbClr val="336699"/>
              </a:solidFill>
              <a:latin typeface="Arial"/>
            </a:endParaRPr>
          </a:p>
        </p:txBody>
      </p:sp>
      <p:sp>
        <p:nvSpPr>
          <p:cNvPr id="4" name="PlaceHolder 3"/>
          <p:cNvSpPr>
            <a:spLocks noGrp="1"/>
          </p:cNvSpPr>
          <p:nvPr>
            <p:ph type="sldNum" idx="3"/>
          </p:nvPr>
        </p:nvSpPr>
        <p:spPr/>
        <p:txBody>
          <a:bodyPr/>
          <a:p>
            <a:fld id="{5363E719-92C2-4FA7-AF4C-1F068E41DC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Trojaner</a:t>
            </a:r>
            <a:endParaRPr b="0" lang="en-US" sz="4400" spc="-1" strike="noStrike">
              <a:solidFill>
                <a:srgbClr val="0066ff"/>
              </a:solidFill>
              <a:latin typeface="Times New Roman"/>
            </a:endParaRPr>
          </a:p>
        </p:txBody>
      </p:sp>
      <p:sp>
        <p:nvSpPr>
          <p:cNvPr id="117"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Merkmale:</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Programm</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kann, versteckt hinter einer offiziellen Funktion, 'herkömmliche' Viren und Würmer enthalten</a:t>
            </a:r>
            <a:endParaRPr b="1" lang="en-US" sz="18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enthält oft</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Keylogger</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Fernsteuerung (Hintertür)</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87FE42A9-548D-4CE0-863A-468BDD0FCE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Trojaner</a:t>
            </a:r>
            <a:endParaRPr b="0" lang="en-US" sz="4400" spc="-1" strike="noStrike">
              <a:solidFill>
                <a:srgbClr val="0066ff"/>
              </a:solidFill>
              <a:latin typeface="Times New Roman"/>
            </a:endParaRPr>
          </a:p>
        </p:txBody>
      </p:sp>
      <p:sp>
        <p:nvSpPr>
          <p:cNvPr id="11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Beispiel:</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PKZIP Trojan Horse (März 1995)</a:t>
            </a:r>
            <a:endParaRPr b="1" lang="en-US" sz="18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falsches PKZIP-Dekomprimierungstool</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löscht Festplatte wenn gestartet</a:t>
            </a:r>
            <a:endParaRPr b="1" lang="en-US" sz="16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iele Screen-Saver (siehe eigene Inbox ;) )</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0E1437EF-B4F8-4E6C-A7B5-285772985E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Malware: Historisches</a:t>
            </a:r>
            <a:endParaRPr b="0" lang="en-US" sz="4400" spc="-1" strike="noStrike">
              <a:solidFill>
                <a:srgbClr val="0066ff"/>
              </a:solidFill>
              <a:latin typeface="Times New Roman"/>
            </a:endParaRPr>
          </a:p>
        </p:txBody>
      </p:sp>
      <p:sp>
        <p:nvSpPr>
          <p:cNvPr id="121"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erstes Malware-Vorkommen waren Trojanische Pferde spätestens in den frühen 60ern</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Studenten versuchten die Uni-eigenen Großrechenanlagen auszutricksen, um eine bevorzugte Ausführung ihrer Programme zu ermöglichen.</a:t>
            </a:r>
            <a:endParaRPr b="1" lang="en-US" sz="18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Fred Cohen testete 1984 auf verschiedenen Betriebssystemen Viren, die sich selber verbreiten konnten.</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Die Hacker-Szene griff die Ideen auf, einige Jahre später erschien der erste 'freie' Virus auf MS DOS-Rechnern </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DOS war eine 'Monokultur', wie heute Windows -&gt; starke Verbreitung</a:t>
            </a:r>
            <a:endParaRPr b="1" lang="en-US" sz="1800" spc="-1" strike="noStrike">
              <a:solidFill>
                <a:srgbClr val="3366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DD85FEF7-94D9-4840-8847-881D974B8D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Malware: Historisches</a:t>
            </a:r>
            <a:endParaRPr b="0" lang="en-US" sz="4400" spc="-1" strike="noStrike">
              <a:solidFill>
                <a:srgbClr val="0066ff"/>
              </a:solidFill>
              <a:latin typeface="Times New Roman"/>
            </a:endParaRPr>
          </a:p>
        </p:txBody>
      </p:sp>
      <p:sp>
        <p:nvSpPr>
          <p:cNvPr id="12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Oktober 1986: erster 'In-the-Wild' Virus</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Brain" aus Pakistan</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tauchte auf einigen Dutzend Disketten an der Universität Delaware, USA auf.</a:t>
            </a:r>
            <a:endParaRPr b="1" lang="en-US" sz="1800" spc="-1" strike="noStrike">
              <a:solidFill>
                <a:srgbClr val="3366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4CA10AC2-2488-4811-9E61-0E81D59EE5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Malware: Historisches</a:t>
            </a:r>
            <a:endParaRPr b="0" lang="en-US" sz="4400" spc="-1" strike="noStrike">
              <a:solidFill>
                <a:srgbClr val="0066ff"/>
              </a:solidFill>
              <a:latin typeface="Times New Roman"/>
            </a:endParaRPr>
          </a:p>
        </p:txBody>
      </p:sp>
      <p:sp>
        <p:nvSpPr>
          <p:cNvPr id="125"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Internet Wurm 'sh', November 1988:</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geschrieben von Robert Morris Jr. (Student)</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das berühmteste Beispiel für 'Service Denial Attacks'</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benützte eine Hand voll generellen und Betriebssystemspezifischen Schwachstellen, um sich zu verbreiten</a:t>
            </a:r>
            <a:endParaRPr b="1" lang="en-US" sz="18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Allgemein</a:t>
            </a:r>
            <a:endParaRPr b="1" lang="en-US" sz="1600" spc="-1" strike="noStrike">
              <a:solidFill>
                <a:srgbClr val="336699"/>
              </a:solidFill>
              <a:latin typeface="Arial"/>
            </a:endParaRPr>
          </a:p>
          <a:p>
            <a:pPr lvl="3" marL="1600200" indent="-228600">
              <a:spcBef>
                <a:spcPts val="34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6699"/>
                </a:solidFill>
                <a:latin typeface="Arial"/>
              </a:rPr>
              <a:t>Rate-Attacke, um Passwörter herauszufinden</a:t>
            </a:r>
            <a:endParaRPr b="1" lang="en-US" sz="1400" spc="-1" strike="noStrike">
              <a:solidFill>
                <a:srgbClr val="336699"/>
              </a:solidFill>
              <a:latin typeface="Arial"/>
            </a:endParaRPr>
          </a:p>
          <a:p>
            <a:pPr lvl="3" marL="1600200" indent="-228600">
              <a:spcBef>
                <a:spcPts val="34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6699"/>
                </a:solidFill>
                <a:latin typeface="Arial"/>
              </a:rPr>
              <a:t>.rhost files wurden benutzt</a:t>
            </a:r>
            <a:endParaRPr b="1" lang="en-US" sz="14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Speziell:</a:t>
            </a:r>
            <a:endParaRPr b="1" lang="en-US" sz="1600" spc="-1" strike="noStrike">
              <a:solidFill>
                <a:srgbClr val="336699"/>
              </a:solidFill>
              <a:latin typeface="Arial"/>
            </a:endParaRPr>
          </a:p>
          <a:p>
            <a:pPr lvl="3" marL="1600200" indent="-228600">
              <a:spcBef>
                <a:spcPts val="34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6699"/>
                </a:solidFill>
                <a:latin typeface="Arial"/>
              </a:rPr>
              <a:t>sendmail-Probleme (debug-feature ausgenutzt)</a:t>
            </a:r>
            <a:endParaRPr b="1" lang="en-US" sz="1400" spc="-1" strike="noStrike">
              <a:solidFill>
                <a:srgbClr val="336699"/>
              </a:solidFill>
              <a:latin typeface="Arial"/>
            </a:endParaRPr>
          </a:p>
          <a:p>
            <a:pPr lvl="3" marL="1600200" indent="-228600">
              <a:spcBef>
                <a:spcPts val="34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6699"/>
                </a:solidFill>
                <a:latin typeface="Arial"/>
              </a:rPr>
              <a:t>fingered-bug (buffer overflow in fgets())]</a:t>
            </a:r>
            <a:endParaRPr b="1" lang="en-US" sz="1400" spc="-1" strike="noStrike">
              <a:solidFill>
                <a:srgbClr val="336699"/>
              </a:solidFill>
              <a:latin typeface="Arial"/>
            </a:endParaRPr>
          </a:p>
        </p:txBody>
      </p:sp>
      <p:sp>
        <p:nvSpPr>
          <p:cNvPr id="4" name="PlaceHolder 3"/>
          <p:cNvSpPr>
            <a:spLocks noGrp="1"/>
          </p:cNvSpPr>
          <p:nvPr>
            <p:ph type="sldNum" idx="3"/>
          </p:nvPr>
        </p:nvSpPr>
        <p:spPr/>
        <p:txBody>
          <a:bodyPr/>
          <a:p>
            <a:fld id="{6B13AA02-B63A-4D25-BF81-461DE85E08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Malware: Historisches</a:t>
            </a:r>
            <a:endParaRPr b="0" lang="en-US" sz="4400" spc="-1" strike="noStrike">
              <a:solidFill>
                <a:srgbClr val="0066ff"/>
              </a:solidFill>
              <a:latin typeface="Times New Roman"/>
            </a:endParaRPr>
          </a:p>
        </p:txBody>
      </p:sp>
      <p:sp>
        <p:nvSpPr>
          <p:cNvPr id="127"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a:t>
            </a:r>
            <a:r>
              <a:rPr b="1" lang="de-DE" sz="2000" spc="-1" strike="noStrike">
                <a:solidFill>
                  <a:srgbClr val="336699"/>
                </a:solidFill>
                <a:latin typeface="Arial"/>
              </a:rPr>
              <a:t>sh‘ verschlüsselte seine Daten-Zeichenketten</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sollte ein Experiment sein, ABER:</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Bug: Wurm erkannte nicht, wenn ein Computer schon befallen war</a:t>
            </a:r>
            <a:endParaRPr b="1" lang="en-US" sz="18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gt; Internet brach teilweise durch zu starke Verbreitung zusammen</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gt; Wurm wirksamer als Atombombe</a:t>
            </a:r>
            <a:endParaRPr b="1" lang="en-US" sz="1600" spc="-1" strike="noStrike">
              <a:solidFill>
                <a:srgbClr val="336699"/>
              </a:solidFill>
              <a:latin typeface="Arial"/>
            </a:endParaRPr>
          </a:p>
        </p:txBody>
      </p:sp>
      <p:sp>
        <p:nvSpPr>
          <p:cNvPr id="4" name="PlaceHolder 3"/>
          <p:cNvSpPr>
            <a:spLocks noGrp="1"/>
          </p:cNvSpPr>
          <p:nvPr>
            <p:ph type="sldNum" idx="3"/>
          </p:nvPr>
        </p:nvSpPr>
        <p:spPr/>
        <p:txBody>
          <a:bodyPr/>
          <a:p>
            <a:fld id="{2F803878-DBB5-4CEC-9E72-9658D31A81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66ff"/>
                </a:solidFill>
                <a:latin typeface="Times New Roman"/>
              </a:rPr>
              <a:t>Viren, Würmer und Trojaner: Malicious Code, oder kurz Malware (malicious: böswillig)</a:t>
            </a:r>
            <a:endParaRPr b="0" lang="en-US" sz="2800" spc="-1" strike="noStrike">
              <a:solidFill>
                <a:srgbClr val="0066ff"/>
              </a:solidFill>
              <a:latin typeface="Times New Roman"/>
            </a:endParaRPr>
          </a:p>
        </p:txBody>
      </p:sp>
      <p:sp>
        <p:nvSpPr>
          <p:cNvPr id="95"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Manipulieren, erstehlen oder zerstören Daten</a:t>
            </a:r>
            <a:endParaRPr b="1"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erstopfen Netzwerke</a:t>
            </a:r>
            <a:endParaRPr b="1"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legen Server durch zu viele Anfragen lahm (flood-attack)</a:t>
            </a:r>
            <a:endParaRPr b="1"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stehlen Ressourcen (v.a. bei Großrechenanlagen)</a:t>
            </a:r>
            <a:endParaRPr b="1"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wählen teure Telefonnummern (die dem Malware-Schreiber gehören)</a:t>
            </a:r>
            <a:endParaRPr b="1"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machen das System fernsteuerbar (erstellen einer 'Hintertür')</a:t>
            </a:r>
            <a:endParaRPr b="1" lang="en-US" sz="1800" spc="-1" strike="noStrike">
              <a:solidFill>
                <a:srgbClr val="3366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028DAFF9-EEF8-4C1A-9651-BF2D10F560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Malware: Historisches</a:t>
            </a:r>
            <a:endParaRPr b="0" lang="en-US" sz="4400" spc="-1" strike="noStrike">
              <a:solidFill>
                <a:srgbClr val="0066ff"/>
              </a:solidFill>
              <a:latin typeface="Times New Roman"/>
            </a:endParaRPr>
          </a:p>
        </p:txBody>
      </p:sp>
      <p:sp>
        <p:nvSpPr>
          <p:cNvPr id="12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späte 80er/frühe 90er Jahre: Viren sind offiziell zu einem Problem geworden</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1991: erstes Release von Norton AntiVirus</a:t>
            </a:r>
            <a:endParaRPr b="1" lang="en-US" sz="1800" spc="-1" strike="noStrike">
              <a:solidFill>
                <a:srgbClr val="3366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1996: Makro-Viren machen von jetzt an die größte Viren-Gruppe in den USA aus, kurz darauf auch in den meisten anderen Ländern</a:t>
            </a:r>
            <a:endParaRPr b="1" lang="en-US" sz="2000" spc="-1" strike="noStrike">
              <a:solidFill>
                <a:srgbClr val="3366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heute (2004): einige Millionen infizierte PCs/Jahr, ca. (!) 50.000 Viren/Würmer/Trojaner</a:t>
            </a:r>
            <a:endParaRPr b="1" lang="en-US" sz="2000" spc="-1" strike="noStrike">
              <a:solidFill>
                <a:srgbClr val="3366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p:txBody>
      </p:sp>
      <p:sp>
        <p:nvSpPr>
          <p:cNvPr id="4" name="PlaceHolder 3"/>
          <p:cNvSpPr>
            <a:spLocks noGrp="1"/>
          </p:cNvSpPr>
          <p:nvPr>
            <p:ph type="sldNum" idx="3"/>
          </p:nvPr>
        </p:nvSpPr>
        <p:spPr/>
        <p:txBody>
          <a:bodyPr/>
          <a:p>
            <a:fld id="{F50C9E20-5254-4C56-929B-7527B0B70B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Hacker-Tricks</a:t>
            </a:r>
            <a:endParaRPr b="0" lang="en-US" sz="4400" spc="-1" strike="noStrike">
              <a:solidFill>
                <a:srgbClr val="0066ff"/>
              </a:solidFill>
              <a:latin typeface="Times New Roman"/>
            </a:endParaRPr>
          </a:p>
        </p:txBody>
      </p:sp>
      <p:sp>
        <p:nvSpPr>
          <p:cNvPr id="131"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DOS:</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com Dateien haben höhere Priorität als .exe Dateien</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Betriebssystem startet z.B. Scanreg.com vor Scanreg.exe</a:t>
            </a:r>
            <a:endParaRPr b="1" lang="en-US" sz="18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Windows:</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Kernel manipulieren (FunLove Virus auf WinNT, 1999) -&gt; Administrator-Rechte</a:t>
            </a:r>
            <a:endParaRPr b="1" lang="en-US" sz="1800" spc="-1" strike="noStrike">
              <a:solidFill>
                <a:srgbClr val="3366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Keine Angriffsstelle im öffentlichen Code eines Systems gefunden?</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Compiler verbreiten, der den Virus in das System heimlich miteinkompiliert (Thompson, 1984)</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B32E4826-7300-4A1E-917E-AC3B8D5B06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Internet-Explorer Schwachstellen</a:t>
            </a:r>
            <a:endParaRPr b="0" lang="en-US" sz="4400" spc="-1" strike="noStrike">
              <a:solidFill>
                <a:srgbClr val="0066ff"/>
              </a:solidFill>
              <a:latin typeface="Times New Roman"/>
            </a:endParaRPr>
          </a:p>
        </p:txBody>
      </p:sp>
      <p:sp>
        <p:nvSpPr>
          <p:cNvPr id="13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Installieren einer 'ToolBar' (Browser Help Object), die Daten ausspioniert</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a:t>
            </a:r>
            <a:r>
              <a:rPr b="1" lang="de-DE" sz="1800" spc="-1" strike="noStrike">
                <a:solidFill>
                  <a:srgbClr val="336699"/>
                </a:solidFill>
                <a:latin typeface="Arial"/>
              </a:rPr>
              <a:t>BHO-Trojaner‘ spionierte Online-Banking-Daten aus, u. a. von Citybank, Deutscher Bank und Sparkasse</a:t>
            </a:r>
            <a:endParaRPr b="1" lang="en-US" sz="18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Laden und Ausführen beliebiger Dateien über IE-Hilfe</a:t>
            </a:r>
            <a:endParaRPr b="1"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Laden der eigenen, schädlichen Seite in das Frameset einer vertrauenswürdigen Seite</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target eines Links auf der eigenen Seite = Namen eines frames einer fremden Seite angeben </a:t>
            </a:r>
            <a:r>
              <a:rPr b="1" i="1" lang="de-DE" sz="1800" spc="-1" strike="noStrike">
                <a:solidFill>
                  <a:srgbClr val="336699"/>
                </a:solidFill>
                <a:latin typeface="Arial"/>
              </a:rPr>
              <a:t>(siehe folgende Bilder)</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Hacker-Seite ersetzt unbemerkt echte Seite (Phishing)</a:t>
            </a:r>
            <a:endParaRPr b="1" lang="en-US" sz="1800" spc="-1" strike="noStrike">
              <a:solidFill>
                <a:srgbClr val="3366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D6DCF9B7-8446-4A2B-AAB0-6809C38C4D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Injection1"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sldNum" idx="3"/>
          </p:nvPr>
        </p:nvSpPr>
        <p:spPr/>
        <p:txBody>
          <a:bodyPr/>
          <a:p>
            <a:fld id="{39AA5FFD-062D-4F0E-BC3B-8E2648B73C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Injection2"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sldNum" idx="3"/>
          </p:nvPr>
        </p:nvSpPr>
        <p:spPr/>
        <p:txBody>
          <a:bodyPr/>
          <a:p>
            <a:fld id="{CE898169-6DB3-4FBA-9B93-C0B465DD45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Injection3"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sldNum" idx="3"/>
          </p:nvPr>
        </p:nvSpPr>
        <p:spPr/>
        <p:txBody>
          <a:bodyPr/>
          <a:p>
            <a:fld id="{D4AFD149-228C-432C-A0A0-6D5B96FC24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usbenennung</a:t>
            </a:r>
            <a:endParaRPr b="0" lang="en-US" sz="4400" spc="-1" strike="noStrike">
              <a:solidFill>
                <a:srgbClr val="0066ff"/>
              </a:solidFill>
              <a:latin typeface="Times New Roman"/>
            </a:endParaRPr>
          </a:p>
        </p:txBody>
      </p:sp>
      <p:sp>
        <p:nvSpPr>
          <p:cNvPr id="138"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früher keine allgemein festgelegte Namengebung</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erwirrung, mehrere Namen für einen Virus/Wurm/Trojaner</a:t>
            </a:r>
            <a:endParaRPr b="1" lang="en-US" sz="18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heute gebräuchlich: Symantec/Norton Anti-Virus Namenskonvention</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Name besteht aus: Prefix: u.a. Plattform, z.B.</a:t>
            </a:r>
            <a:endParaRPr b="1" lang="en-US" sz="18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W32: 32-bit Windows (95/98/ME)</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WNT: Windows NT</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WM: Word Macro</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VBS: geschrieben in VB Skriptsprache</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Linux</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DoS: Denial of Service</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Backdoor: öffnet 'Hintertür'</a:t>
            </a:r>
            <a:endParaRPr b="1" lang="en-US" sz="1600" spc="-1" strike="noStrike">
              <a:solidFill>
                <a:srgbClr val="336699"/>
              </a:solidFill>
              <a:latin typeface="Arial"/>
            </a:endParaRPr>
          </a:p>
        </p:txBody>
      </p:sp>
      <p:sp>
        <p:nvSpPr>
          <p:cNvPr id="4" name="PlaceHolder 3"/>
          <p:cNvSpPr>
            <a:spLocks noGrp="1"/>
          </p:cNvSpPr>
          <p:nvPr>
            <p:ph type="sldNum" idx="3"/>
          </p:nvPr>
        </p:nvSpPr>
        <p:spPr/>
        <p:txBody>
          <a:bodyPr/>
          <a:p>
            <a:fld id="{A377956C-D8A7-453D-AF96-1C3CCC8130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usbenennung</a:t>
            </a:r>
            <a:endParaRPr b="0" lang="en-US" sz="4400" spc="-1" strike="noStrike">
              <a:solidFill>
                <a:srgbClr val="0066ff"/>
              </a:solidFill>
              <a:latin typeface="Times New Roman"/>
            </a:endParaRPr>
          </a:p>
        </p:txBody>
      </p:sp>
      <p:sp>
        <p:nvSpPr>
          <p:cNvPr id="140"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Haupt-) Name: Familienname des Virus/Wurms/Trojaners</a:t>
            </a:r>
            <a:r>
              <a:rPr b="1" lang="de-DE" sz="1800" spc="-1" strike="noStrike">
                <a:solidFill>
                  <a:srgbClr val="336699"/>
                </a:solidFill>
                <a:latin typeface="Arial"/>
              </a:rPr>
              <a:t>	</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Suffix (optional): Varianten</a:t>
            </a:r>
            <a:endParaRPr b="1" lang="en-US" sz="18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A, B, Y etc.: Variantenname</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m: mailer</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mm: mass mailer</a:t>
            </a:r>
            <a:endParaRPr b="1" lang="en-US" sz="1600" spc="-1" strike="noStrike">
              <a:solidFill>
                <a:srgbClr val="336699"/>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Beispiele (aktuelle Viren 07/04)</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W32.Beagle.AB@mm</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W32.Mota.A@mm</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Backdoor.Ranky.H</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8A7E89C3-7E08-40A3-B120-434EBF7343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Malware Erkennung/Beseitigung</a:t>
            </a:r>
            <a:endParaRPr b="0" lang="en-US" sz="4400" spc="-1" strike="noStrike">
              <a:solidFill>
                <a:srgbClr val="0066ff"/>
              </a:solidFill>
              <a:latin typeface="Times New Roman"/>
            </a:endParaRPr>
          </a:p>
        </p:txBody>
      </p:sp>
      <p:sp>
        <p:nvSpPr>
          <p:cNvPr id="142"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früher einfach, alle Dateien des Systems werden vom Anti-Viren-Programm als 'bereits befallen' markiert</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bald aufgrund der großen Dateimengen und hohen Anzahl von Viren nicht mehr möglich, Entwicklung von Scannern</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5DB0EAD4-DCC8-4E9A-9276-CF517FE238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en-Scanner</a:t>
            </a:r>
            <a:endParaRPr b="0" lang="en-US" sz="4400" spc="-1" strike="noStrike">
              <a:solidFill>
                <a:srgbClr val="0066ff"/>
              </a:solidFill>
              <a:latin typeface="Times New Roman"/>
            </a:endParaRPr>
          </a:p>
        </p:txBody>
      </p:sp>
      <p:sp>
        <p:nvSpPr>
          <p:cNvPr id="144"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prinzipiell einfach: verfolgen den 'Ausführungs-Pfad' der Executables, suchen nach bekannten Zeichenketten oder einem charakteristisches Bitmuster ("Signatur")</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Ganze Virus-Familien können z.B. durch gleichen Replikator erkannt werden</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38DF07FA-C9BB-4BF3-92B2-03CA8ABD22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us</a:t>
            </a:r>
            <a:endParaRPr b="0" lang="en-US" sz="4400" spc="-1" strike="noStrike">
              <a:solidFill>
                <a:srgbClr val="0066ff"/>
              </a:solidFill>
              <a:latin typeface="Times New Roman"/>
            </a:endParaRPr>
          </a:p>
        </p:txBody>
      </p:sp>
      <p:sp>
        <p:nvSpPr>
          <p:cNvPr id="97"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Merkmale:</a:t>
            </a:r>
            <a:endParaRPr b="1" lang="en-US" sz="2000" spc="-1" strike="noStrike">
              <a:solidFill>
                <a:srgbClr val="336699"/>
              </a:solidFill>
              <a:latin typeface="Arial"/>
            </a:endParaRPr>
          </a:p>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Code-Stück, meist &lt; 4KB</a:t>
            </a:r>
            <a:endParaRPr b="1" lang="en-US" sz="2000" spc="-1" strike="noStrike">
              <a:solidFill>
                <a:srgbClr val="336699"/>
              </a:solidFill>
              <a:latin typeface="Arial"/>
            </a:endParaRPr>
          </a:p>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verbreitet sich selbständig</a:t>
            </a:r>
            <a:endParaRPr b="1" lang="en-US" sz="2000" spc="-1" strike="noStrike">
              <a:solidFill>
                <a:srgbClr val="336699"/>
              </a:solidFill>
              <a:latin typeface="Arial"/>
            </a:endParaRPr>
          </a:p>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eingebettet in einem Host-Programm</a:t>
            </a:r>
            <a:endParaRPr b="1" lang="en-US" sz="2000" spc="-1" strike="noStrike">
              <a:solidFill>
                <a:srgbClr val="336699"/>
              </a:solidFill>
              <a:latin typeface="Arial"/>
            </a:endParaRPr>
          </a:p>
          <a:p>
            <a:pPr lvl="2" marL="1143000" indent="-228600">
              <a:spcBef>
                <a:spcPts val="49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kann nicht selbständig laufen, Aktivierung durch Starten des Host-Programms</a:t>
            </a:r>
            <a:endParaRPr b="1" lang="en-US" sz="2000" spc="-1" strike="noStrike">
              <a:solidFill>
                <a:srgbClr val="336699"/>
              </a:solidFill>
              <a:latin typeface="Arial"/>
            </a:endParaRPr>
          </a:p>
        </p:txBody>
      </p:sp>
      <p:sp>
        <p:nvSpPr>
          <p:cNvPr id="4" name="PlaceHolder 3"/>
          <p:cNvSpPr>
            <a:spLocks noGrp="1"/>
          </p:cNvSpPr>
          <p:nvPr>
            <p:ph type="sldNum" idx="3"/>
          </p:nvPr>
        </p:nvSpPr>
        <p:spPr/>
        <p:txBody>
          <a:bodyPr/>
          <a:p>
            <a:fld id="{F8B987C9-F2AC-4951-B3DB-29825C92F0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en-Scanner</a:t>
            </a:r>
            <a:endParaRPr b="0" lang="en-US" sz="4400" spc="-1" strike="noStrike">
              <a:solidFill>
                <a:srgbClr val="0066ff"/>
              </a:solidFill>
              <a:latin typeface="Times New Roman"/>
            </a:endParaRPr>
          </a:p>
        </p:txBody>
      </p:sp>
      <p:sp>
        <p:nvSpPr>
          <p:cNvPr id="146"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auch möglich: erstellen einer Prüfsumme (Hash-Wert) aus den Executable-Bytes, die bei Befall mit einem Virus theoretisch geändert werden sollte</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speziell für System-Dateien (system binaries): genannt Tripwire</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Problem: Prüfsumme kann auch nach Befall gleich sein, wenn Virus gut gebaut</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irusbefall muss nach (!) der ersten Prüfsummenerstellung erfolgen</a:t>
            </a:r>
            <a:endParaRPr b="1" lang="en-US" sz="1800" spc="-1" strike="noStrike">
              <a:solidFill>
                <a:srgbClr val="3366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E6E099AA-46A8-4AD9-935B-A5B2676D6B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en-Scanner: Probleme (1)</a:t>
            </a:r>
            <a:endParaRPr b="0" lang="en-US" sz="4400" spc="-1" strike="noStrike">
              <a:solidFill>
                <a:srgbClr val="0066ff"/>
              </a:solidFill>
              <a:latin typeface="Times New Roman"/>
            </a:endParaRPr>
          </a:p>
        </p:txBody>
      </p:sp>
      <p:sp>
        <p:nvSpPr>
          <p:cNvPr id="148"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es ist ein wahres 'Wettrüsten' zwischen den Virus-Schreibern und -Bekämpfern entstanden</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manche Viren versuchen, Scanner zu deaktivieren (und dann zu löschen)</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z.B. Suche nach Fenster, deren Titel bestimmten Text enthalten ('Norton AntiVirus', 'Anti-Vir', 'anti-virus' etc.)</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Abschießen' des Fenster-Prozesses durch SIGQUIT, WM_CLOSE etc.</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stealth'-Viren verstecken sich selber, wenn sie bestimmte Systemaufrufe (der Anti-Virus Software) feststellen -&gt; unsichtbar</a:t>
            </a:r>
            <a:endParaRPr b="1" lang="en-US" sz="1800" spc="-1" strike="noStrike">
              <a:solidFill>
                <a:srgbClr val="3366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B49B039E-E746-40C9-B84F-FD6071100D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en-Scanner: Probleme (2)</a:t>
            </a:r>
            <a:endParaRPr b="0" lang="en-US" sz="4400" spc="-1" strike="noStrike">
              <a:solidFill>
                <a:srgbClr val="0066ff"/>
              </a:solidFill>
              <a:latin typeface="Times New Roman"/>
            </a:endParaRPr>
          </a:p>
        </p:txBody>
      </p:sp>
      <p:sp>
        <p:nvSpPr>
          <p:cNvPr id="150"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Virenscanner werden 'ausgebremst'</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Manipulation am Program Entry Point der befallen Executable in einer Weise, so dass der Scanner die ganze Datei vollständig durchsuchen muss</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Zip Dateien enthalten monotonen Text, der, wenn vom Scanner dekomprimiert, viele MB groß ist</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BE1D55FD-6657-482B-A60A-4DB405190D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Scanner: Verschlüsselte Viren</a:t>
            </a:r>
            <a:endParaRPr b="0" lang="en-US" sz="4400" spc="-1" strike="noStrike">
              <a:solidFill>
                <a:srgbClr val="0066ff"/>
              </a:solidFill>
              <a:latin typeface="Times New Roman"/>
            </a:endParaRPr>
          </a:p>
        </p:txBody>
      </p:sp>
      <p:sp>
        <p:nvSpPr>
          <p:cNvPr id="152"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Viren 'verstecken' sich vor Scanner durch Verschlüsselung</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oft einfache Schlüsselung, die aber das Scannen verlangsamt, oder sogar zur Tarnung vor auf Geschwindigkeit ausgerichtete Scanner ausreichen</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Erkennung des Virus durch Verschlüsselungs-Routine (die unverschlüsselt bleiben muss)</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bei vielen Viren gleich</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meist nur 10-15 Bytes z.B.</a:t>
            </a:r>
            <a:endParaRPr b="1" lang="en-US" sz="18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Ascii-Code(Virus-Codechar) = Ascii-Code(Virus-Codechar) Xor</a:t>
            </a:r>
            <a:r>
              <a:rPr b="1" lang="de-DE" sz="1600" spc="-1" strike="noStrike">
                <a:solidFill>
                  <a:srgbClr val="336699"/>
                </a:solidFill>
                <a:latin typeface="Arial"/>
              </a:rPr>
              <a:t>	</a:t>
            </a:r>
            <a:r>
              <a:rPr b="1" lang="de-DE" sz="1600" spc="-1" strike="noStrike">
                <a:solidFill>
                  <a:srgbClr val="336699"/>
                </a:solidFill>
                <a:latin typeface="Arial"/>
              </a:rPr>
              <a:t>Ascii-Code(Key)</a:t>
            </a:r>
            <a:endParaRPr b="1" lang="en-US" sz="16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genaue Zuordung zu Virus schwierig</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Identifizierungs-Fehler</a:t>
            </a:r>
            <a:endParaRPr b="1" lang="en-US" sz="1800" spc="-1" strike="noStrike">
              <a:solidFill>
                <a:srgbClr val="3366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1A91C5F7-ED0F-47C5-A0EF-2303EBE2B4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Scanner: Polymorphe Viren</a:t>
            </a:r>
            <a:endParaRPr b="0" lang="en-US" sz="4400" spc="-1" strike="noStrike">
              <a:solidFill>
                <a:srgbClr val="0066ff"/>
              </a:solidFill>
              <a:latin typeface="Times New Roman"/>
            </a:endParaRPr>
          </a:p>
        </p:txBody>
      </p:sp>
      <p:sp>
        <p:nvSpPr>
          <p:cNvPr id="154"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Viren verändern ihre Gestalt, indem keine exakt gleiche Kopie erstellt wird (Polymorphe Viren)</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Instruktionen werden umgestellt (Funktion bleibt erhalten), oder es werden sinnlose Instruktionen hinzugefügt oder entfernt</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Sandboxing": evtl. befallene Datei wird auf einem geschützten virtuellen Computer ausgeführt </a:t>
            </a:r>
            <a:r>
              <a:rPr b="1" i="1" lang="de-DE" sz="1800" spc="-1" strike="noStrike">
                <a:solidFill>
                  <a:srgbClr val="336699"/>
                </a:solidFill>
                <a:latin typeface="Arial"/>
              </a:rPr>
              <a:t>(siehe nachfolgendes Bild)</a:t>
            </a:r>
            <a:endParaRPr b="1" lang="en-US" sz="1800" spc="-1" strike="noStrike">
              <a:solidFill>
                <a:srgbClr val="3366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Analyse des entschlüsselten Virus</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Problem der Performanz:</a:t>
            </a:r>
            <a:endParaRPr b="1" lang="en-US" sz="18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wann wird der Virus aktiv?</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Halteproblem</a:t>
            </a:r>
            <a:endParaRPr b="1" lang="en-US" sz="1600" spc="-1" strike="noStrike">
              <a:solidFill>
                <a:srgbClr val="336699"/>
              </a:solidFill>
              <a:latin typeface="Arial"/>
            </a:endParaRPr>
          </a:p>
        </p:txBody>
      </p:sp>
      <p:sp>
        <p:nvSpPr>
          <p:cNvPr id="4" name="PlaceHolder 3"/>
          <p:cNvSpPr>
            <a:spLocks noGrp="1"/>
          </p:cNvSpPr>
          <p:nvPr>
            <p:ph type="sldNum" idx="3"/>
          </p:nvPr>
        </p:nvSpPr>
        <p:spPr/>
        <p:txBody>
          <a:bodyPr/>
          <a:p>
            <a:fld id="{842AD9B0-BCE1-4DEA-B8F4-AD8CD135A6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VMWareInstallingWin98"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sldNum" idx="3"/>
          </p:nvPr>
        </p:nvSpPr>
        <p:spPr/>
        <p:txBody>
          <a:bodyPr/>
          <a:p>
            <a:fld id="{CBB1E40A-7D58-4557-8C35-C24DB6D7FA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Beseitigung von Viren</a:t>
            </a:r>
            <a:endParaRPr b="0" lang="en-US" sz="4400" spc="-1" strike="noStrike">
              <a:solidFill>
                <a:srgbClr val="0066ff"/>
              </a:solidFill>
              <a:latin typeface="Times New Roman"/>
            </a:endParaRPr>
          </a:p>
        </p:txBody>
      </p:sp>
      <p:sp>
        <p:nvSpPr>
          <p:cNvPr id="157"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genaue Identifikation des Viruses oder der Virusfamilie in einer infizierten Datei</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irus-Bereinigung unter Verwendung genauer Virus-Daten (Länge und Position des Replikators und der Payload u.a.)</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Wiederherstellung, Umbenennung oder Löschung der befallenen Datei</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Bei Bootsektor-Viren muss mit Boot-Diskette gearbeitet werden</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Löschen/Wiederherstellung von Registry-Einträgen</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70D5DB45-9B62-4D9A-A513-1983BAC9DB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Schutz vor Malware</a:t>
            </a:r>
            <a:endParaRPr b="0" lang="en-US" sz="4400" spc="-1" strike="noStrike">
              <a:solidFill>
                <a:srgbClr val="0066ff"/>
              </a:solidFill>
              <a:latin typeface="Times New Roman"/>
            </a:endParaRPr>
          </a:p>
        </p:txBody>
      </p:sp>
      <p:sp>
        <p:nvSpPr>
          <p:cNvPr id="1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Einbruchsvorbeugung:</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Firewall (Kommunikation nur über wenige, vom Admin festgelegte ports)</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alle Microsoft-Executables in mails blocken</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Schwachstellen in Code finden und beseitigen</a:t>
            </a:r>
            <a:endParaRPr b="1" lang="en-US" sz="18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Buffer Overflow unmöglich machen (nicht strcpy() sondern strncpy() verwenden)</a:t>
            </a:r>
            <a:endParaRPr b="1" lang="en-US" sz="16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keine umfangreichen Skripte erlauben (mißachtet in IE mit Java)</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82E9DBBF-5C06-4755-8AE6-3C5BEA5313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Einbruchsvorbeugung</a:t>
            </a:r>
            <a:endParaRPr b="0" lang="en-US" sz="4400" spc="-1" strike="noStrike">
              <a:solidFill>
                <a:srgbClr val="0066ff"/>
              </a:solidFill>
              <a:latin typeface="Times New Roman"/>
            </a:endParaRPr>
          </a:p>
        </p:txBody>
      </p:sp>
      <p:sp>
        <p:nvSpPr>
          <p:cNvPr id="161"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Eigeninitiative'</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keine unbekannten Anhänge öffnen</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Java ausschalten (IE etc.)</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Makro-Sicherheitsstufe auf 'hoch' stellen (MS Word, PPT etc.)</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kein Outlook verwenden</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generell kein Microsoft-Produkt verwenden ( ;) )</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62D1CA19-8F7B-497B-88E0-001472149A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Einbruchserkennung</a:t>
            </a:r>
            <a:endParaRPr b="0" lang="en-US" sz="4400" spc="-1" strike="noStrike">
              <a:solidFill>
                <a:srgbClr val="0066ff"/>
              </a:solidFill>
              <a:latin typeface="Times New Roman"/>
            </a:endParaRPr>
          </a:p>
        </p:txBody>
      </p:sp>
      <p:sp>
        <p:nvSpPr>
          <p:cNvPr id="16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Einbrüche werden erkannt vom 'Intrusion Detection System'</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Überwachung von Netzwerkverkehr</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Probleme:</a:t>
            </a:r>
            <a:endParaRPr b="1" lang="en-US" sz="18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viel 'Müll' im Internet, kann fälschlich als Einbruch gewertet werden, z.B. bad packets von fehlerhafter Software, veraltete/kaputte DNS Daten und eigene, aus dem Internet zurückgekehrte Pakete</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viel mehr Müll als wirkliche Angriffe (schwer zu erkennen)</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SSL Verschlüsselung macht Malware für Filter unkenntlich</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Unwirtschaftlich: Einbruchsvorbeugung manchmal nur Fassade für Versicherer</a:t>
            </a:r>
            <a:endParaRPr b="1" lang="en-US" sz="1600" spc="-1" strike="noStrike">
              <a:solidFill>
                <a:srgbClr val="336699"/>
              </a:solidFill>
              <a:latin typeface="Arial"/>
            </a:endParaRPr>
          </a:p>
        </p:txBody>
      </p:sp>
      <p:sp>
        <p:nvSpPr>
          <p:cNvPr id="4" name="PlaceHolder 3"/>
          <p:cNvSpPr>
            <a:spLocks noGrp="1"/>
          </p:cNvSpPr>
          <p:nvPr>
            <p:ph type="sldNum" idx="3"/>
          </p:nvPr>
        </p:nvSpPr>
        <p:spPr/>
        <p:txBody>
          <a:bodyPr/>
          <a:p>
            <a:fld id="{91365410-2FB2-4BAC-AEE4-D3C7B6996A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us</a:t>
            </a:r>
            <a:endParaRPr b="0" lang="en-US" sz="4400" spc="-1" strike="noStrike">
              <a:solidFill>
                <a:srgbClr val="0066ff"/>
              </a:solidFill>
              <a:latin typeface="Times New Roman"/>
            </a:endParaRPr>
          </a:p>
        </p:txBody>
      </p:sp>
      <p:sp>
        <p:nvSpPr>
          <p:cNvPr id="9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besteht aus</a:t>
            </a:r>
            <a:endParaRPr b="1" lang="en-US" sz="2000" spc="-1" strike="noStrike">
              <a:solidFill>
                <a:srgbClr val="336699"/>
              </a:solidFill>
              <a:latin typeface="Arial"/>
            </a:endParaRPr>
          </a:p>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Replicator: reproduziert Virus</a:t>
            </a:r>
            <a:endParaRPr b="1" lang="en-US" sz="2000" spc="-1" strike="noStrike">
              <a:solidFill>
                <a:srgbClr val="336699"/>
              </a:solidFill>
              <a:latin typeface="Arial"/>
            </a:endParaRPr>
          </a:p>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Payload: sonstige Virus-Funktionen</a:t>
            </a:r>
            <a:endParaRPr b="1" lang="en-US" sz="2000" spc="-1" strike="noStrike">
              <a:solidFill>
                <a:srgbClr val="336699"/>
              </a:solidFill>
              <a:latin typeface="Arial"/>
            </a:endParaRPr>
          </a:p>
          <a:p>
            <a:pPr lvl="2" marL="1143000" indent="-228600">
              <a:spcBef>
                <a:spcPts val="451"/>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Festplatte löschen oder formatieren</a:t>
            </a:r>
            <a:endParaRPr b="1" lang="en-US" sz="1800" spc="-1" strike="noStrike">
              <a:solidFill>
                <a:srgbClr val="336699"/>
              </a:solidFill>
              <a:latin typeface="Arial"/>
            </a:endParaRPr>
          </a:p>
          <a:p>
            <a:pPr lvl="2" marL="1143000" indent="-228600">
              <a:spcBef>
                <a:spcPts val="451"/>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Datum verstellen (hundert Jahre vor/zurück)</a:t>
            </a:r>
            <a:endParaRPr b="1" lang="en-US" sz="1800" spc="-1" strike="noStrike">
              <a:solidFill>
                <a:srgbClr val="336699"/>
              </a:solidFill>
              <a:latin typeface="Arial"/>
            </a:endParaRPr>
          </a:p>
          <a:p>
            <a:pPr lvl="2" marL="1143000" indent="-228600">
              <a:spcBef>
                <a:spcPts val="451"/>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Wörter in Textdateien vertauschen</a:t>
            </a:r>
            <a:endParaRPr b="1" lang="en-US" sz="1800" spc="-1" strike="noStrike">
              <a:solidFill>
                <a:srgbClr val="336699"/>
              </a:solidFill>
              <a:latin typeface="Arial"/>
            </a:endParaRPr>
          </a:p>
          <a:p>
            <a:pPr lvl="2" marL="1143000" indent="-228600">
              <a:spcBef>
                <a:spcPts val="451"/>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manchmal zu einem bestimmten Datum (z.B. Michelangelo‘s Geburtstag), sog. logische Bombe</a:t>
            </a:r>
            <a:endParaRPr b="1" lang="en-US" sz="1800" spc="-1" strike="noStrike">
              <a:solidFill>
                <a:srgbClr val="336699"/>
              </a:solidFill>
              <a:latin typeface="Arial"/>
            </a:endParaRPr>
          </a:p>
          <a:p>
            <a:pPr lvl="2" marL="1143000" indent="-228600">
              <a:spcBef>
                <a:spcPts val="451"/>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erschlüsselung, Virus umbauen (Polymorphe Viren)</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99F28174-A170-4380-956D-0B52D949D6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Weiterführende Links</a:t>
            </a:r>
            <a:endParaRPr b="0" lang="en-US" sz="4400" spc="-1" strike="noStrike">
              <a:solidFill>
                <a:srgbClr val="0066ff"/>
              </a:solidFill>
              <a:latin typeface="Times New Roman"/>
            </a:endParaRPr>
          </a:p>
        </p:txBody>
      </p:sp>
      <p:sp>
        <p:nvSpPr>
          <p:cNvPr id="165"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http://www.wildlist.org/</a:t>
            </a:r>
            <a:endParaRPr b="1" lang="en-US" sz="2000" spc="-1" strike="noStrike">
              <a:solidFill>
                <a:srgbClr val="336699"/>
              </a:solidFill>
              <a:latin typeface="Arial"/>
            </a:endParaRPr>
          </a:p>
          <a:p>
            <a:pPr lvl="1" marL="735480" indent="-28296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irus-Informationen von über 64 Firmen und sonstigen Teilnehmern</a:t>
            </a:r>
            <a:endParaRPr b="1" lang="en-US" sz="1800" spc="-1" strike="noStrike">
              <a:solidFill>
                <a:srgbClr val="336699"/>
              </a:solidFill>
              <a:latin typeface="Arial"/>
            </a:endParaRPr>
          </a:p>
          <a:p>
            <a:pPr lvl="1" marL="735480" indent="-28296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über 200 aktuelle Viren</a:t>
            </a:r>
            <a:endParaRPr b="1" lang="en-US" sz="1800" spc="-1" strike="noStrike">
              <a:solidFill>
                <a:srgbClr val="336699"/>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marL="339480" indent="-3394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http://www.bsi.bund.de/</a:t>
            </a:r>
            <a:endParaRPr b="1" lang="en-US" sz="2000" spc="-1" strike="noStrike">
              <a:solidFill>
                <a:srgbClr val="336699"/>
              </a:solidFill>
              <a:latin typeface="Arial"/>
            </a:endParaRPr>
          </a:p>
          <a:p>
            <a:pPr lvl="1" marL="735480" indent="-28296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Bundesamt für Sicherheit in der Informationstechnik</a:t>
            </a:r>
            <a:endParaRPr b="1" lang="en-US" sz="1800" spc="-1" strike="noStrike">
              <a:solidFill>
                <a:srgbClr val="336699"/>
              </a:solidFill>
              <a:latin typeface="Arial"/>
            </a:endParaRPr>
          </a:p>
          <a:p>
            <a:pPr lvl="1" marL="735480" indent="-28296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neueste Malware-News vollständig und verständlich aufgeführt</a:t>
            </a:r>
            <a:endParaRPr b="1" lang="en-US" sz="1800" spc="-1" strike="noStrike">
              <a:solidFill>
                <a:srgbClr val="336699"/>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marL="339480" indent="-3394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louis@toricxs.com:</a:t>
            </a:r>
            <a:endParaRPr b="1" lang="en-US" sz="2000" spc="-1" strike="noStrike">
              <a:solidFill>
                <a:srgbClr val="336699"/>
              </a:solidFill>
              <a:latin typeface="Arial"/>
            </a:endParaRPr>
          </a:p>
          <a:p>
            <a:pPr lvl="1" marL="735480" indent="-28296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Interessierte können mir mailen für den Code eines simplen VC++ Keyloggers, versteckt als Trojaner in Duke Nukem 1</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635797B9-AB7E-4CB5-86AF-C23082D41D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Quellen</a:t>
            </a:r>
            <a:endParaRPr b="0" lang="en-US" sz="4400" spc="-1" strike="noStrike">
              <a:solidFill>
                <a:srgbClr val="0066ff"/>
              </a:solidFill>
              <a:latin typeface="Times New Roman"/>
            </a:endParaRPr>
          </a:p>
        </p:txBody>
      </p:sp>
      <p:sp>
        <p:nvSpPr>
          <p:cNvPr id="167"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R. Anderson, Security Engineering, Wiley 2001</a:t>
            </a:r>
            <a:endParaRPr b="1" lang="en-US" sz="2000" spc="-1" strike="noStrike">
              <a:solidFill>
                <a:srgbClr val="336699"/>
              </a:solidFill>
              <a:latin typeface="Arial"/>
            </a:endParaRPr>
          </a:p>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http://crypto.stanford.edu/cs155/lecture12.pdf (25.02.2004)</a:t>
            </a:r>
            <a:endParaRPr b="1" lang="en-US" sz="2000" spc="-1" strike="noStrike">
              <a:solidFill>
                <a:srgbClr val="336699"/>
              </a:solidFill>
              <a:latin typeface="Arial"/>
            </a:endParaRPr>
          </a:p>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http://linux.about.com/</a:t>
            </a:r>
            <a:endParaRPr b="1" lang="en-US" sz="2000" spc="-1" strike="noStrike">
              <a:solidFill>
                <a:srgbClr val="336699"/>
              </a:solidFill>
              <a:latin typeface="Arial"/>
            </a:endParaRPr>
          </a:p>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www.heise.de</a:t>
            </a:r>
            <a:endParaRPr b="1" lang="en-US" sz="2000" spc="-1" strike="noStrike">
              <a:solidFill>
                <a:srgbClr val="336699"/>
              </a:solidFill>
              <a:latin typeface="Arial"/>
            </a:endParaRPr>
          </a:p>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http://secunia.com/multiple_browsers_frame_injection_vulnerability_test/</a:t>
            </a:r>
            <a:endParaRPr b="1" lang="en-US" sz="2000" spc="-1" strike="noStrike">
              <a:solidFill>
                <a:srgbClr val="336699"/>
              </a:solidFill>
              <a:latin typeface="Arial"/>
            </a:endParaRPr>
          </a:p>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http://www.cs.cornell.edu/html/cs513-sp98/L03.html</a:t>
            </a:r>
            <a:endParaRPr b="1" lang="en-US" sz="2000" spc="-1" strike="noStrike">
              <a:solidFill>
                <a:srgbClr val="336699"/>
              </a:solidFill>
              <a:latin typeface="Arial"/>
            </a:endParaRPr>
          </a:p>
        </p:txBody>
      </p:sp>
      <p:sp>
        <p:nvSpPr>
          <p:cNvPr id="4" name="PlaceHolder 3"/>
          <p:cNvSpPr>
            <a:spLocks noGrp="1"/>
          </p:cNvSpPr>
          <p:nvPr>
            <p:ph type="sldNum" idx="3"/>
          </p:nvPr>
        </p:nvSpPr>
        <p:spPr/>
        <p:txBody>
          <a:bodyPr/>
          <a:p>
            <a:fld id="{7CCBAACF-E7B5-4630-AEDA-3652FD9E77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0160" y="1371240"/>
            <a:ext cx="7772400" cy="205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ff"/>
                </a:solidFill>
                <a:latin typeface="Times New Roman"/>
              </a:rPr>
              <a:t>“</a:t>
            </a:r>
            <a:r>
              <a:rPr b="0" lang="de-DE" sz="2400" spc="-1" strike="noStrike">
                <a:solidFill>
                  <a:srgbClr val="0066ff"/>
                </a:solidFill>
                <a:latin typeface="Times New Roman"/>
              </a:rPr>
              <a:t>You do get a rush from doing it – definitely.” </a:t>
            </a:r>
            <a:br>
              <a:rPr sz="2400"/>
            </a:br>
            <a:r>
              <a:rPr b="0" lang="de-DE" sz="2400" spc="-1" strike="noStrike">
                <a:solidFill>
                  <a:srgbClr val="0066ff"/>
                </a:solidFill>
                <a:latin typeface="Times New Roman"/>
              </a:rPr>
              <a:t>“I’m like your nosy neighbor on steroids, basically.”</a:t>
            </a:r>
            <a:br>
              <a:rPr sz="2000"/>
            </a:br>
            <a:endParaRPr b="0" lang="en-US" sz="2400" spc="-1" strike="noStrike">
              <a:solidFill>
                <a:srgbClr val="0066ff"/>
              </a:solidFill>
              <a:latin typeface="Times New Roman"/>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Raphael Gray (aka Curador)</a:t>
            </a:r>
            <a:br>
              <a:rPr sz="2000"/>
            </a:br>
            <a:br>
              <a:rPr sz="2000"/>
            </a:br>
            <a:r>
              <a:rPr b="1" lang="de-DE" sz="2000" spc="-1" strike="noStrike">
                <a:solidFill>
                  <a:srgbClr val="336699"/>
                </a:solidFill>
                <a:latin typeface="Arial"/>
              </a:rPr>
              <a:t>   [stole and posted 26,000 credit card numbers]</a:t>
            </a:r>
            <a:endParaRPr b="1"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us-Kategorien (1)</a:t>
            </a:r>
            <a:endParaRPr b="0" lang="en-US" sz="4400" spc="-1" strike="noStrike">
              <a:solidFill>
                <a:srgbClr val="0066ff"/>
              </a:solidFill>
              <a:latin typeface="Times New Roman"/>
            </a:endParaRPr>
          </a:p>
        </p:txBody>
      </p:sp>
      <p:sp>
        <p:nvSpPr>
          <p:cNvPr id="101"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Boot Virus</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on Anfang an Speicherresident (vor Scanner)</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populär in DOS- und Disketten-Zeiten</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C9393C1A-C70B-454B-B0A8-7B5F293CEE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us-Kategorien (2)</a:t>
            </a:r>
            <a:endParaRPr b="0" lang="en-US" sz="4400" spc="-1" strike="noStrike">
              <a:solidFill>
                <a:srgbClr val="0066ff"/>
              </a:solidFill>
              <a:latin typeface="Times New Roman"/>
            </a:endParaRPr>
          </a:p>
        </p:txBody>
      </p:sp>
      <p:sp>
        <p:nvSpPr>
          <p:cNvPr id="10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Virus in Executable</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ersetzt die erste Prozessor-Instruktion der Executable durch einen Sprungbefehl in den Virus-Code, der meist am Ende der Datei angehängt wurde</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irus versucht, andere Dateien zu infizieren, zerstört möglicherweise Daten</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Rückkehr in den ursprünglichen Executable-Code</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3B3B08D2-2655-49C9-8BCA-1AF9B9C7BD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us-Kategorien (3)</a:t>
            </a:r>
            <a:endParaRPr b="0" lang="en-US" sz="4400" spc="-1" strike="noStrike">
              <a:solidFill>
                <a:srgbClr val="0066ff"/>
              </a:solidFill>
              <a:latin typeface="Times New Roman"/>
            </a:endParaRPr>
          </a:p>
        </p:txBody>
      </p:sp>
      <p:sp>
        <p:nvSpPr>
          <p:cNvPr id="105"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Makro-Virus (in Datei, wird von einer Anwendung ausgeführt)</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populär: Visual Basic Script Viren in MS Word</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einfach, von 'Script-Kiddies' geschrieben</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erbreitet sich unbemerkt mit den Dokumenten</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EC3DC486-0438-47ED-BFC8-073CCBCF3D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MakroVirusEdit"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sldNum" idx="3"/>
          </p:nvPr>
        </p:nvSpPr>
        <p:spPr/>
        <p:txBody>
          <a:bodyPr/>
          <a:p>
            <a:fld id="{61FC001D-E473-4EBA-B7F7-467C08345A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MakroVirusRun"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sldNum" idx="3"/>
          </p:nvPr>
        </p:nvSpPr>
        <p:spPr/>
        <p:txBody>
          <a:bodyPr/>
          <a:p>
            <a:fld id="{5B34544D-5E48-402D-9A60-F8E7008564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 Dawson</cp:lastModifiedBy>
  <cp:lastPrinted>2004-07-21T19:32:28Z</cp:lastPrinted>
  <dcterms:modified xsi:type="dcterms:W3CDTF">2004-07-21T20:46:41Z</dcterms:modified>
  <cp:revision>44</cp:revision>
  <dc:subject/>
  <dc:title>Viren, Würmer und Trojaner</dc:title>
</cp:coreProperties>
</file>